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FD20-5848-47C4-8859-8F127E3A1C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13DA-245C-4C55-B69E-CC25B6C21B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BD8D-4D04-4ECC-AB26-05F7569283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2483-C65B-495E-A712-50E4FD571E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8E08-EF41-4FF3-B80E-50BD23D283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A1B4-C4C2-4374-9169-BC672EF92C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45AD-71C8-452B-989B-CD9FBE907B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51C8-FE71-4E91-8FC4-239B522B6A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60CC-A775-43F6-AD69-7A96BD55EB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7562-06F0-4635-BAC4-167B6FAFF5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7BA4-3565-4BDA-BF25-DE32F0DADF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E241-3FE2-423E-B551-8DCFF6BB32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80B9-6479-407A-8119-70C50948E4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2269-4C62-4E52-A13F-EFF391E605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87F-6F5B-4214-AB5A-1C855B3A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216-60F5-4FFE-9096-6597E43D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0E5-2353-46E4-9AA2-D8BE3FF1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9D9-7692-4D12-9BBB-35F08AAB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F97E-2BAD-4493-8AE2-1BA2DF80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529D-10D8-4259-AC37-BFCDCE49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4BC0-88F5-4F7C-9BEA-3EB0058F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CC1B-5AB4-47D2-9966-FC4BCFDE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FE4E-89B3-4C5F-BCFF-1A7B9F16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3A18-4513-4375-BDD1-FCAF9215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A563-6CFC-4A50-BB30-46AB8121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76A-F6D5-46EA-8086-2A14AC24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FA61-7371-4300-9B42-553F0469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2BF5-7395-40D9-87BD-86673DCE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DE6E-36F7-40CA-A331-0BAA7289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A9A3-4070-4095-8153-833F85B0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FD26-5432-428F-8686-3CDB7F0D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BB2-EB88-407B-A65A-8214A7D7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EDA-F1C1-4A8D-B39E-514D06C1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C26-E7DE-41C8-9B20-F66396D9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821-E55D-4485-B070-14E501E3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390-1155-42B4-B2F2-ED1D04ED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B07-A4A9-4633-8C5F-D1A9C979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99B-2113-460A-AEEF-DC691313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205E-6FD8-44EB-87AF-556BBA015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E298-D47F-4F0B-91EA-72117DA4F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spaces- Contexte 6 B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600200" y="44197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nse à prend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7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Russie en hiver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8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au Hawaii en printemp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9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Angleterre en automn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0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Polynésie en été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Directions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gardez la destination présentée. Puis, dites à votre partenaire où vous allez aller là. Votre partenaire doit vous recommander un vêtement pour le voy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ariez l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odè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E1: Je vais en France pour l’été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Qu’est-ce je dois prendr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E2: Il fait chaud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Prends un maillot de bain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au Québec en hiver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à la Martinique au printemp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3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Suisse en automn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4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Australie en été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5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Finlande au printemp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au Bermuda en été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1-13T20:00:23Z</dcterms:modified>
  <cp:revision>77</cp:revision>
  <dc:subject/>
  <dc:title>Allez, viens! – Level 2</dc:title>
</cp:coreProperties>
</file>